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2A7-56E0-483C-B137-85537D60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DCB-B76F-4B93-B64F-40A1A711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4CE-760A-44B2-9B88-810CC014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4DB-1BCF-482C-A877-8CAA0ECD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33B-1D1D-40C8-AEF3-1BD043C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B39-A61E-4521-A654-8D4DAD86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380-3A50-40F6-BCB9-3D3B24DF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5A8-981E-4378-AE9A-3CDF885C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FF3-271C-4D75-86C0-0F0A324A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7EC-6710-4D0A-80C3-37A8341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5A8-9E30-48AB-AFC1-22DEB82B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445-8FE3-4EE0-BA7D-2E3A68C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DA1-8C08-44B5-9C0B-20BFCCAF7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0 Krok za krok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ok za krokom vedie k cieľ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svoj verný ľu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vahu a nádej smel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lovo vlieva v hr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žiť z Božej mo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vždy listom Kristov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íriť svetlo v sveta n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me vždycky hot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kerný hoc nepriateľ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ŕním stelie cestu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hňom skúšok, úskalím strá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domovu nás viesť chc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ármutok a úzkosť v duš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môže viera nezdoln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ľ, čo srdce niekdy krúš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a milosť preko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vždy za Ježiš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trvalo kráč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o Božej láske ľuď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šene vždy hlása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ťazná je naša ces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keď vedie nás vždy vpre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, kde chystá pre nás mies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vedie nás naposled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31:01Z</dcterms:modified>
  <cp:revision>21</cp:revision>
  <dc:subject/>
  <dc:title>Je veľký náš Pán, on slávy je Kráľ Nech do všetkých strán  spev vrúcnych znie chvál.</dc:title>
</cp:coreProperties>
</file>